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8ECE7-4D03-4EAE-8F35-2C12F2E482F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2714B-FAEB-40B2-8D16-16F5C011D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69597-9626-4F40-8F11-BB5F73B97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0C381-7A22-4017-8F7B-36EAB7E66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D697B-B61C-43C0-BB16-7FF84B882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DEE88-5D85-4E61-95CE-750B136B6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2A5CB-7497-4CB7-9FDA-519468B16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85CE5-CB11-4518-81C7-A33046BB3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2FA5C-DA14-4F99-A6B1-018758D70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0F823-23E2-49FB-8C51-52BD58CE4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24212-DA05-4889-B23D-5AE7005F9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A0C7B-6AD6-4C2D-BC2E-FBE53A989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2723B-C1D5-4CF6-B199-177F4ACE2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038BF-01F8-4E4C-A227-3C771A3742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4.xml"/><Relationship Id="rId6" Type="http://schemas.openxmlformats.org/officeDocument/2006/relationships/slide" Target="slide4.xm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2.xml"/><Relationship Id="rId3" Type="http://schemas.openxmlformats.org/officeDocument/2006/relationships/slide" Target="slide5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10.xml"/><Relationship Id="rId3" Type="http://schemas.openxmlformats.org/officeDocument/2006/relationships/slide" Target="slide11.xml"/><Relationship Id="rId4" Type="http://schemas.openxmlformats.org/officeDocument/2006/relationships/slide" Target="slide13.xml"/><Relationship Id="rId5" Type="http://schemas.openxmlformats.org/officeDocument/2006/relationships/slide" Target="slide15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5640" y="1719360"/>
            <a:ext cx="7817040" cy="2862000"/>
          </a:xfrm>
          <a:prstGeom prst="rect">
            <a:avLst/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Aspecte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în modelarea protocoalelor de comunicare între calculato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/>
          <p:nvPr/>
        </p:nvSpPr>
        <p:spPr>
          <a:xfrm>
            <a:off x="3197880" y="404640"/>
            <a:ext cx="283392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umitru U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zun, Andrei Braicov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Universitatea de Stat din Tiraspol</a:t>
            </a:r>
            <a:br>
              <a:rPr sz="1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zuns@gmail.com, braicov@mail.m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IOStre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Write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mite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Read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cepta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1116000" y="3860640"/>
            <a:ext cx="6985080" cy="1872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Opened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analul este deschis (disponibil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FileName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Numele canalulu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CycleCount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ontorul ciclurilor de scriere/citi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Стрелка влево 6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Conectarea la canalul specific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Disconec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Deconectarea de la can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ynchroniz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incronizarea cu cei deja conectaţ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ionTim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Timpul scurs de la conecta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457200" y="1600200"/>
            <a:ext cx="8229600" cy="47084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e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Este conectat sau n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BaudRat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Frecvenţa transmiterii de d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Timer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Procedura chemată în fiecare ciclu </a:t>
            </a:r>
            <a:br>
              <a:rPr sz="2600"/>
            </a:b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(de BaudRate ori pe  sec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Read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citi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Writ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scrie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MyAddr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Adresa în reţe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Conect,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Disconect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Стрелка влево 4">
            <a:hlinkClick r:id="rId2" action="ppaction://hlinksldjump"/>
          </p:cNvPr>
          <p:cNvSpPr/>
          <p:nvPr/>
        </p:nvSpPr>
        <p:spPr>
          <a:xfrm>
            <a:off x="428760" y="63831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831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SendDat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Trimite datele la adresa specific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Trimite comanda la adresa specificat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ombinaţie dintre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D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Type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a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, numai specifica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tipul datelor trimi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ListSend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Funcţiile de mai sus au analoag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pentru transmiterea datelor la o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lista de adrese specific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457200" y="1600200"/>
            <a:ext cx="8229600" cy="45435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s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 a tuturor membri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TGovProtoco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Writ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Read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getState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pecifică etapa curentă de realizar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 a protocolului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1042920" y="5084640"/>
            <a:ext cx="7129440" cy="1008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LastAddr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 Adresa membrului care ultimul a transmis d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 Box 2"/>
          <p:cNvSpPr/>
          <p:nvPr/>
        </p:nvSpPr>
        <p:spPr>
          <a:xfrm>
            <a:off x="474840" y="1143000"/>
            <a:ext cx="8215200" cy="54291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Блок-схема: альтернативный процесс 129"/>
          <p:cNvSpPr/>
          <p:nvPr/>
        </p:nvSpPr>
        <p:spPr>
          <a:xfrm>
            <a:off x="3714840" y="4643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Net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42960" y="56293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Блок-схема: альтернативный процесс 128"/>
          <p:cNvSpPr/>
          <p:nvPr/>
        </p:nvSpPr>
        <p:spPr>
          <a:xfrm>
            <a:off x="3714840" y="1214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App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657360" y="2987640"/>
            <a:ext cx="295092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642960" y="21430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642960" y="4748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2" name="AutoShape 8"/>
          <p:cNvCxnSpPr>
            <a:stCxn id="170" idx="0"/>
            <a:endCxn id="173" idx="2"/>
          </p:cNvCxnSpPr>
          <p:nvPr/>
        </p:nvCxnSpPr>
        <p:spPr>
          <a:xfrm flipV="1">
            <a:off x="2117880" y="1896480"/>
            <a:ext cx="2160" cy="246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4" name="AutoShape 9"/>
          <p:cNvCxnSpPr>
            <a:stCxn id="169" idx="2"/>
            <a:endCxn id="175" idx="0"/>
          </p:cNvCxnSpPr>
          <p:nvPr/>
        </p:nvCxnSpPr>
        <p:spPr>
          <a:xfrm flipH="1">
            <a:off x="2126520" y="3598560"/>
            <a:ext cx="540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6" name="AutoShape 10"/>
          <p:cNvCxnSpPr>
            <a:stCxn id="175" idx="2"/>
            <a:endCxn id="171" idx="0"/>
          </p:cNvCxnSpPr>
          <p:nvPr/>
        </p:nvCxnSpPr>
        <p:spPr>
          <a:xfrm flipH="1">
            <a:off x="2118960" y="44859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73" name="Text Box 7"/>
          <p:cNvSpPr/>
          <p:nvPr/>
        </p:nvSpPr>
        <p:spPr>
          <a:xfrm>
            <a:off x="642960" y="12859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7"/>
          <p:cNvSpPr/>
          <p:nvPr/>
        </p:nvSpPr>
        <p:spPr>
          <a:xfrm>
            <a:off x="650880" y="3875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819600" y="578592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IOStrea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819600" y="143316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MainFor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827520" y="401760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3832200" y="3119400"/>
            <a:ext cx="15130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3817800" y="2263680"/>
            <a:ext cx="15130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Protocol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7"/>
          <p:cNvSpPr/>
          <p:nvPr/>
        </p:nvSpPr>
        <p:spPr>
          <a:xfrm>
            <a:off x="3819600" y="4878360"/>
            <a:ext cx="15112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GovProtoc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3" name="AutoShape 8"/>
          <p:cNvCxnSpPr>
            <a:stCxn id="170" idx="2"/>
            <a:endCxn id="169" idx="0"/>
          </p:cNvCxnSpPr>
          <p:nvPr/>
        </p:nvCxnSpPr>
        <p:spPr>
          <a:xfrm>
            <a:off x="2116800" y="2754360"/>
            <a:ext cx="1476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84" name="AutoShape 10"/>
          <p:cNvCxnSpPr>
            <a:stCxn id="171" idx="2"/>
            <a:endCxn id="167" idx="0"/>
          </p:cNvCxnSpPr>
          <p:nvPr/>
        </p:nvCxnSpPr>
        <p:spPr>
          <a:xfrm flipH="1">
            <a:off x="2117520" y="53593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85" name="Rectangle 4"/>
          <p:cNvSpPr/>
          <p:nvPr/>
        </p:nvSpPr>
        <p:spPr>
          <a:xfrm>
            <a:off x="5584680" y="56437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5599080" y="3002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6"/>
          <p:cNvSpPr/>
          <p:nvPr/>
        </p:nvSpPr>
        <p:spPr>
          <a:xfrm>
            <a:off x="5584680" y="21574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7"/>
          <p:cNvSpPr/>
          <p:nvPr/>
        </p:nvSpPr>
        <p:spPr>
          <a:xfrm>
            <a:off x="5584680" y="4762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AutoShape 8"/>
          <p:cNvCxnSpPr>
            <a:stCxn id="190" idx="2"/>
            <a:endCxn id="187" idx="0"/>
          </p:cNvCxnSpPr>
          <p:nvPr/>
        </p:nvCxnSpPr>
        <p:spPr>
          <a:xfrm flipH="1">
            <a:off x="7059240" y="1911240"/>
            <a:ext cx="2160" cy="2469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1" name="AutoShape 9"/>
          <p:cNvCxnSpPr>
            <a:stCxn id="186" idx="2"/>
            <a:endCxn id="192" idx="0"/>
          </p:cNvCxnSpPr>
          <p:nvPr/>
        </p:nvCxnSpPr>
        <p:spPr>
          <a:xfrm flipH="1">
            <a:off x="7068600" y="3612960"/>
            <a:ext cx="576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3" name="AutoShape 10"/>
          <p:cNvCxnSpPr>
            <a:stCxn id="192" idx="2"/>
            <a:endCxn id="188" idx="0"/>
          </p:cNvCxnSpPr>
          <p:nvPr/>
        </p:nvCxnSpPr>
        <p:spPr>
          <a:xfrm flipH="1">
            <a:off x="7060680" y="45003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90" name="Text Box 7"/>
          <p:cNvSpPr/>
          <p:nvPr/>
        </p:nvSpPr>
        <p:spPr>
          <a:xfrm>
            <a:off x="5584680" y="13003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7"/>
          <p:cNvSpPr/>
          <p:nvPr/>
        </p:nvSpPr>
        <p:spPr>
          <a:xfrm>
            <a:off x="5592600" y="3889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AutoShape 8"/>
          <p:cNvCxnSpPr>
            <a:stCxn id="187" idx="2"/>
            <a:endCxn id="186" idx="0"/>
          </p:cNvCxnSpPr>
          <p:nvPr/>
        </p:nvCxnSpPr>
        <p:spPr>
          <a:xfrm>
            <a:off x="7059600" y="2768760"/>
            <a:ext cx="1512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5" name="AutoShape 10"/>
          <p:cNvCxnSpPr>
            <a:stCxn id="188" idx="2"/>
            <a:endCxn id="185" idx="0"/>
          </p:cNvCxnSpPr>
          <p:nvPr/>
        </p:nvCxnSpPr>
        <p:spPr>
          <a:xfrm flipH="1">
            <a:off x="7059240" y="53737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6" name="Прямая со стрелкой 43"/>
          <p:cNvCxnSpPr>
            <a:stCxn id="167" idx="3"/>
            <a:endCxn id="177" idx="1"/>
          </p:cNvCxnSpPr>
          <p:nvPr/>
        </p:nvCxnSpPr>
        <p:spPr>
          <a:xfrm>
            <a:off x="3594240" y="5935680"/>
            <a:ext cx="226080" cy="30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7" name="Прямая со стрелкой 75"/>
          <p:cNvCxnSpPr>
            <a:stCxn id="169" idx="3"/>
            <a:endCxn id="180" idx="1"/>
          </p:cNvCxnSpPr>
          <p:nvPr/>
        </p:nvCxnSpPr>
        <p:spPr>
          <a:xfrm>
            <a:off x="3608280" y="3292200"/>
            <a:ext cx="224640" cy="68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8" name="Прямая со стрелкой 76"/>
          <p:cNvCxnSpPr>
            <a:stCxn id="180" idx="3"/>
            <a:endCxn id="186" idx="1"/>
          </p:cNvCxnSpPr>
          <p:nvPr/>
        </p:nvCxnSpPr>
        <p:spPr>
          <a:xfrm>
            <a:off x="5344920" y="329868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9" name="Прямая со стрелкой 77"/>
          <p:cNvCxnSpPr>
            <a:stCxn id="170" idx="3"/>
            <a:endCxn id="181" idx="1"/>
          </p:cNvCxnSpPr>
          <p:nvPr/>
        </p:nvCxnSpPr>
        <p:spPr>
          <a:xfrm flipV="1">
            <a:off x="3593880" y="2444040"/>
            <a:ext cx="2242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0" name="Прямая со стрелкой 78"/>
          <p:cNvCxnSpPr>
            <a:stCxn id="181" idx="3"/>
            <a:endCxn id="187" idx="1"/>
          </p:cNvCxnSpPr>
          <p:nvPr/>
        </p:nvCxnSpPr>
        <p:spPr>
          <a:xfrm>
            <a:off x="5330520" y="2444400"/>
            <a:ext cx="254520" cy="198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1" name="Прямая со стрелкой 79"/>
          <p:cNvCxnSpPr>
            <a:stCxn id="171" idx="3"/>
            <a:endCxn id="182" idx="1"/>
          </p:cNvCxnSpPr>
          <p:nvPr/>
        </p:nvCxnSpPr>
        <p:spPr>
          <a:xfrm>
            <a:off x="3594240" y="5052600"/>
            <a:ext cx="2260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2" name="Прямая со стрелкой 80"/>
          <p:cNvCxnSpPr>
            <a:stCxn id="182" idx="3"/>
            <a:endCxn id="188" idx="1"/>
          </p:cNvCxnSpPr>
          <p:nvPr/>
        </p:nvCxnSpPr>
        <p:spPr>
          <a:xfrm>
            <a:off x="5330520" y="5057280"/>
            <a:ext cx="254520" cy="104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3" name="Прямая со стрелкой 81"/>
          <p:cNvCxnSpPr>
            <a:stCxn id="173" idx="3"/>
            <a:endCxn id="178" idx="1"/>
          </p:cNvCxnSpPr>
          <p:nvPr/>
        </p:nvCxnSpPr>
        <p:spPr>
          <a:xfrm>
            <a:off x="3594240" y="1590480"/>
            <a:ext cx="226080" cy="2268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4" name="Прямая со стрелкой 82"/>
          <p:cNvCxnSpPr>
            <a:stCxn id="178" idx="3"/>
            <a:endCxn id="190" idx="1"/>
          </p:cNvCxnSpPr>
          <p:nvPr/>
        </p:nvCxnSpPr>
        <p:spPr>
          <a:xfrm flipV="1">
            <a:off x="5330520" y="160452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5" name="Прямая со стрелкой 123"/>
          <p:cNvCxnSpPr>
            <a:stCxn id="185" idx="1"/>
            <a:endCxn id="177" idx="3"/>
          </p:cNvCxnSpPr>
          <p:nvPr/>
        </p:nvCxnSpPr>
        <p:spPr>
          <a:xfrm flipH="1">
            <a:off x="5330160" y="5950080"/>
            <a:ext cx="254520" cy="1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206" name="Rectangle 2"/>
          <p:cNvSpPr/>
          <p:nvPr/>
        </p:nvSpPr>
        <p:spPr>
          <a:xfrm>
            <a:off x="457200" y="274680"/>
            <a:ext cx="8229600" cy="7970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7" name="Соединительная линия уступом 132"/>
          <p:cNvCxnSpPr/>
          <p:nvPr/>
        </p:nvCxnSpPr>
        <p:spPr>
          <a:xfrm flipH="1" rot="16200000">
            <a:off x="3428640" y="328572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08" name="Соединительная линия уступом 144"/>
          <p:cNvCxnSpPr/>
          <p:nvPr/>
        </p:nvCxnSpPr>
        <p:spPr>
          <a:xfrm rot="5400000">
            <a:off x="4714200" y="328608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  <p:cxnSp>
        <p:nvCxnSpPr>
          <p:cNvPr id="209" name="Прямая со стрелкой 154"/>
          <p:cNvCxnSpPr/>
          <p:nvPr/>
        </p:nvCxnSpPr>
        <p:spPr>
          <a:xfrm flipH="1">
            <a:off x="4141440" y="4397040"/>
            <a:ext cx="2160" cy="251640"/>
          </a:xfrm>
          <a:prstGeom prst="straightConnector1">
            <a:avLst/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10" name="Прямая со стрелкой 155"/>
          <p:cNvCxnSpPr/>
          <p:nvPr/>
        </p:nvCxnSpPr>
        <p:spPr>
          <a:xfrm flipH="1">
            <a:off x="5037840" y="4403520"/>
            <a:ext cx="2520" cy="253080"/>
          </a:xfrm>
          <a:prstGeom prst="straightConnector1">
            <a:avLst/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Rea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Extrage elementul de jos din stiv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Writ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Adaugă un element în vârful stive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Each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 Extrage de jos şi adaugă sus elementu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1116000" y="4057560"/>
            <a:ext cx="6985080" cy="1800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550"/>
              </a:spcBef>
              <a:spcAft>
                <a:spcPts val="964"/>
              </a:spcAft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2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ready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Nr. elementelor din stiv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Arrays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Un tablou ce reprezintă conţinutul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ize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Mărimea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uccess 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Dacă ultima operaţie a avul loc cu succes sau 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Tipurile de reţel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6840" y="1523880"/>
            <a:ext cx="8186760" cy="2571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80880" indent="-2854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</a:t>
            </a:r>
            <a:r>
              <a:rPr b="0" lang="ro-RO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opologi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Magistrala</a:t>
            </a:r>
            <a:r>
              <a:rPr b="1" lang="ro-RO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In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rbo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457200" y="4267080"/>
            <a:ext cx="8215200" cy="221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ehnologi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de transm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4" action="ppaction://hlinksldjump"/>
              </a:rPr>
              <a:t>Cu 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5" action="ppaction://hlinksldjump"/>
              </a:rPr>
              <a:t>difuzare</a:t>
            </a:r>
            <a:r>
              <a:rPr b="0" lang="ro-RO" sz="36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6" action="ppaction://hlinksldjump"/>
              </a:rPr>
              <a:t>Punct-la-pun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Calibri"/>
              </a:rPr>
              <a:t>Topologia reţel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" name="Группа 20"/>
          <p:cNvGrpSpPr/>
          <p:nvPr/>
        </p:nvGrpSpPr>
        <p:grpSpPr>
          <a:xfrm>
            <a:off x="642960" y="1928880"/>
            <a:ext cx="2928960" cy="2214360"/>
            <a:chOff x="642960" y="1928880"/>
            <a:chExt cx="2928960" cy="2214360"/>
          </a:xfrm>
        </p:grpSpPr>
        <p:sp>
          <p:nvSpPr>
            <p:cNvPr id="56" name="Прямоугольник 21"/>
            <p:cNvSpPr/>
            <p:nvPr/>
          </p:nvSpPr>
          <p:spPr>
            <a:xfrm>
              <a:off x="1285920" y="3643200"/>
              <a:ext cx="150012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Magistrală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Группа 76"/>
            <p:cNvGrpSpPr/>
            <p:nvPr/>
          </p:nvGrpSpPr>
          <p:grpSpPr>
            <a:xfrm>
              <a:off x="642960" y="1928880"/>
              <a:ext cx="2928960" cy="1714320"/>
              <a:chOff x="642960" y="1928880"/>
              <a:chExt cx="2928960" cy="1714320"/>
            </a:xfrm>
          </p:grpSpPr>
          <p:sp>
            <p:nvSpPr>
              <p:cNvPr id="58" name="Прямая соединительная линия 23"/>
              <p:cNvSpPr/>
              <p:nvPr/>
            </p:nvSpPr>
            <p:spPr>
              <a:xfrm>
                <a:off x="642960" y="2786040"/>
                <a:ext cx="2928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Овал 24"/>
              <p:cNvSpPr/>
              <p:nvPr/>
            </p:nvSpPr>
            <p:spPr>
              <a:xfrm>
                <a:off x="7855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Овал 25"/>
              <p:cNvSpPr/>
              <p:nvPr/>
            </p:nvSpPr>
            <p:spPr>
              <a:xfrm>
                <a:off x="7855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Овал 26"/>
              <p:cNvSpPr/>
              <p:nvPr/>
            </p:nvSpPr>
            <p:spPr>
              <a:xfrm>
                <a:off x="15001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Овал 27"/>
              <p:cNvSpPr/>
              <p:nvPr/>
            </p:nvSpPr>
            <p:spPr>
              <a:xfrm>
                <a:off x="15001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Овал 28"/>
              <p:cNvSpPr/>
              <p:nvPr/>
            </p:nvSpPr>
            <p:spPr>
              <a:xfrm>
                <a:off x="22147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Овал 29"/>
              <p:cNvSpPr/>
              <p:nvPr/>
            </p:nvSpPr>
            <p:spPr>
              <a:xfrm>
                <a:off x="22147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Овал 30"/>
              <p:cNvSpPr/>
              <p:nvPr/>
            </p:nvSpPr>
            <p:spPr>
              <a:xfrm>
                <a:off x="292896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Овал 31"/>
              <p:cNvSpPr/>
              <p:nvPr/>
            </p:nvSpPr>
            <p:spPr>
              <a:xfrm>
                <a:off x="292896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Прямая соединительная линия 32"/>
              <p:cNvSpPr/>
              <p:nvPr/>
            </p:nvSpPr>
            <p:spPr>
              <a:xfrm flipH="1">
                <a:off x="9633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Прямая соединительная линия 33"/>
              <p:cNvSpPr/>
              <p:nvPr/>
            </p:nvSpPr>
            <p:spPr>
              <a:xfrm flipH="1">
                <a:off x="16779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Прямая соединительная линия 34"/>
              <p:cNvSpPr/>
              <p:nvPr/>
            </p:nvSpPr>
            <p:spPr>
              <a:xfrm flipH="1">
                <a:off x="23925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Прямая соединительная линия 35"/>
              <p:cNvSpPr/>
              <p:nvPr/>
            </p:nvSpPr>
            <p:spPr>
              <a:xfrm flipH="1">
                <a:off x="310680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1" name="Группа 36"/>
          <p:cNvGrpSpPr/>
          <p:nvPr/>
        </p:nvGrpSpPr>
        <p:grpSpPr>
          <a:xfrm>
            <a:off x="5786280" y="1785960"/>
            <a:ext cx="2630520" cy="3071880"/>
            <a:chOff x="5786280" y="1785960"/>
            <a:chExt cx="2630520" cy="3071880"/>
          </a:xfrm>
        </p:grpSpPr>
        <p:grpSp>
          <p:nvGrpSpPr>
            <p:cNvPr id="72" name="Группа 73"/>
            <p:cNvGrpSpPr/>
            <p:nvPr/>
          </p:nvGrpSpPr>
          <p:grpSpPr>
            <a:xfrm>
              <a:off x="5786280" y="1785960"/>
              <a:ext cx="2630520" cy="2571840"/>
              <a:chOff x="5786280" y="1785960"/>
              <a:chExt cx="2630520" cy="2571840"/>
            </a:xfrm>
          </p:grpSpPr>
          <p:sp>
            <p:nvSpPr>
              <p:cNvPr id="73" name="Овал 39"/>
              <p:cNvSpPr/>
              <p:nvPr/>
            </p:nvSpPr>
            <p:spPr>
              <a:xfrm>
                <a:off x="7202520" y="17859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Овал 40"/>
              <p:cNvSpPr/>
              <p:nvPr/>
            </p:nvSpPr>
            <p:spPr>
              <a:xfrm>
                <a:off x="648792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Овал 41"/>
              <p:cNvSpPr/>
              <p:nvPr/>
            </p:nvSpPr>
            <p:spPr>
              <a:xfrm>
                <a:off x="797544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Прямая соединительная линия 42"/>
              <p:cNvSpPr/>
              <p:nvPr/>
            </p:nvSpPr>
            <p:spPr>
              <a:xfrm flipH="1">
                <a:off x="6792480" y="2090520"/>
                <a:ext cx="4618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Прямая соединительная линия 43"/>
              <p:cNvSpPr/>
              <p:nvPr/>
            </p:nvSpPr>
            <p:spPr>
              <a:xfrm>
                <a:off x="7507080" y="2090520"/>
                <a:ext cx="5205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Овал 44"/>
              <p:cNvSpPr/>
              <p:nvPr/>
            </p:nvSpPr>
            <p:spPr>
              <a:xfrm>
                <a:off x="578628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Овал 45"/>
              <p:cNvSpPr/>
              <p:nvPr/>
            </p:nvSpPr>
            <p:spPr>
              <a:xfrm>
                <a:off x="727380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Прямая соединительная линия 46"/>
              <p:cNvSpPr/>
              <p:nvPr/>
            </p:nvSpPr>
            <p:spPr>
              <a:xfrm flipH="1">
                <a:off x="6090840" y="2805120"/>
                <a:ext cx="4492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Прямая соединительная линия 47"/>
              <p:cNvSpPr/>
              <p:nvPr/>
            </p:nvSpPr>
            <p:spPr>
              <a:xfrm>
                <a:off x="6792120" y="28051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Овал 48"/>
              <p:cNvSpPr/>
              <p:nvPr/>
            </p:nvSpPr>
            <p:spPr>
              <a:xfrm>
                <a:off x="6702120" y="40006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Прямая соединительная линия 49"/>
              <p:cNvSpPr/>
              <p:nvPr/>
            </p:nvSpPr>
            <p:spPr>
              <a:xfrm flipH="1">
                <a:off x="7007040" y="3519720"/>
                <a:ext cx="318960" cy="53316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Овал 50"/>
              <p:cNvSpPr/>
              <p:nvPr/>
            </p:nvSpPr>
            <p:spPr>
              <a:xfrm>
                <a:off x="8059680" y="39294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Прямая соединительная линия 51"/>
              <p:cNvSpPr/>
              <p:nvPr/>
            </p:nvSpPr>
            <p:spPr>
              <a:xfrm>
                <a:off x="7578000" y="35197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" name="Прямоугольник 38"/>
            <p:cNvSpPr/>
            <p:nvPr/>
          </p:nvSpPr>
          <p:spPr>
            <a:xfrm>
              <a:off x="7072200" y="4357800"/>
              <a:ext cx="114300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Arbo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Группа 52"/>
          <p:cNvGrpSpPr/>
          <p:nvPr/>
        </p:nvGrpSpPr>
        <p:grpSpPr>
          <a:xfrm>
            <a:off x="3071880" y="4143240"/>
            <a:ext cx="2357280" cy="2264040"/>
            <a:chOff x="3071880" y="4143240"/>
            <a:chExt cx="2357280" cy="2264040"/>
          </a:xfrm>
        </p:grpSpPr>
        <p:sp>
          <p:nvSpPr>
            <p:cNvPr id="88" name="Прямоугольник 53"/>
            <p:cNvSpPr/>
            <p:nvPr/>
          </p:nvSpPr>
          <p:spPr>
            <a:xfrm>
              <a:off x="3801960" y="4143240"/>
              <a:ext cx="857160" cy="3571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Ine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" name="Группа 75"/>
            <p:cNvGrpSpPr/>
            <p:nvPr/>
          </p:nvGrpSpPr>
          <p:grpSpPr>
            <a:xfrm>
              <a:off x="3071880" y="4406760"/>
              <a:ext cx="2357280" cy="2000520"/>
              <a:chOff x="3071880" y="4406760"/>
              <a:chExt cx="2357280" cy="2000520"/>
            </a:xfrm>
          </p:grpSpPr>
          <p:sp>
            <p:nvSpPr>
              <p:cNvPr id="90" name="Овал 55"/>
              <p:cNvSpPr/>
              <p:nvPr/>
            </p:nvSpPr>
            <p:spPr>
              <a:xfrm>
                <a:off x="357192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Овал 56"/>
              <p:cNvSpPr/>
              <p:nvPr/>
            </p:nvSpPr>
            <p:spPr>
              <a:xfrm>
                <a:off x="457200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Овал 57"/>
              <p:cNvSpPr/>
              <p:nvPr/>
            </p:nvSpPr>
            <p:spPr>
              <a:xfrm>
                <a:off x="3071880" y="526392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Овал 58"/>
              <p:cNvSpPr/>
              <p:nvPr/>
            </p:nvSpPr>
            <p:spPr>
              <a:xfrm>
                <a:off x="5072040" y="53355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Овал 59"/>
              <p:cNvSpPr/>
              <p:nvPr/>
            </p:nvSpPr>
            <p:spPr>
              <a:xfrm>
                <a:off x="4071960" y="60501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Прямая соединительная линия 60"/>
              <p:cNvSpPr/>
              <p:nvPr/>
            </p:nvSpPr>
            <p:spPr>
              <a:xfrm flipV="1">
                <a:off x="3251160" y="4710960"/>
                <a:ext cx="372960" cy="55260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Прямая соединительная линия 61"/>
              <p:cNvSpPr/>
              <p:nvPr/>
            </p:nvSpPr>
            <p:spPr>
              <a:xfrm>
                <a:off x="3929040" y="4586040"/>
                <a:ext cx="642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Прямая соединительная линия 62"/>
              <p:cNvSpPr/>
              <p:nvPr/>
            </p:nvSpPr>
            <p:spPr>
              <a:xfrm>
                <a:off x="4876920" y="4711320"/>
                <a:ext cx="374400" cy="623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Прямая соединительная линия 63"/>
              <p:cNvSpPr/>
              <p:nvPr/>
            </p:nvSpPr>
            <p:spPr>
              <a:xfrm flipH="1">
                <a:off x="4376520" y="5640480"/>
                <a:ext cx="74772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Прямая соединительная линия 64"/>
              <p:cNvSpPr/>
              <p:nvPr/>
            </p:nvSpPr>
            <p:spPr>
              <a:xfrm flipH="1" flipV="1">
                <a:off x="3376080" y="5568840"/>
                <a:ext cx="747720" cy="53352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" name="Прямая соединительная линия 66"/>
          <p:cNvSpPr/>
          <p:nvPr/>
        </p:nvSpPr>
        <p:spPr>
          <a:xfrm>
            <a:off x="1928880" y="5429160"/>
            <a:ext cx="1143000" cy="1440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Скругленный прямоугольник 68"/>
          <p:cNvSpPr/>
          <p:nvPr/>
        </p:nvSpPr>
        <p:spPr>
          <a:xfrm>
            <a:off x="857160" y="5214960"/>
            <a:ext cx="10717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Membru 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al  reţel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Скругленный прямоугольник 72"/>
          <p:cNvSpPr/>
          <p:nvPr/>
        </p:nvSpPr>
        <p:spPr>
          <a:xfrm>
            <a:off x="4429080" y="1928880"/>
            <a:ext cx="122256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Canalul de comunic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ая соединительная линия 73"/>
          <p:cNvSpPr/>
          <p:nvPr/>
        </p:nvSpPr>
        <p:spPr>
          <a:xfrm flipV="1">
            <a:off x="3201840" y="2143080"/>
            <a:ext cx="1214640" cy="64296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Стрелка влево 54">
            <a:hlinkClick r:id="rId1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cu difuzare</a:t>
            </a:r>
            <a:br>
              <a:rPr sz="4000"/>
            </a:b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Un singur canal de comunicaţie este folosit de toţi membrii reţelei</a:t>
            </a: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reţele mic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esaje scurte, numite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pachete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, care au în structura lor, două câmpuri pentru desemnarea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expeditorului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 şi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destinatarului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Se pot trimite pachete către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to</a:t>
            </a:r>
            <a:r>
              <a:rPr b="1" lang="ro-RO" sz="3000" spc="-1" strike="noStrike">
                <a:solidFill>
                  <a:srgbClr val="000000"/>
                </a:solidFill>
                <a:latin typeface="Arial"/>
              </a:rPr>
              <a:t>ţi membrii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n reţea, acest mod de operare numindu-se </a:t>
            </a:r>
            <a:r>
              <a:rPr b="1" i="1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roblema de bază – </a:t>
            </a: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concurenţa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entru “cucerirea” canalului de transmisi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Стрелка вправо 5">
            <a:hlinkClick r:id="rId3" action="ppaction://hlinksldjump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punct-la-punct</a:t>
            </a:r>
            <a:br>
              <a:rPr sz="44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Pachetele se transmit  prin </a:t>
            </a:r>
            <a:r>
              <a:rPr b="0" lang="ro-RO" sz="2200" spc="-1" strike="noStrike">
                <a:solidFill>
                  <a:srgbClr val="000000"/>
                </a:solidFill>
                <a:latin typeface="Times New Roman"/>
              </a:rPr>
              <a:t>maşini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 intermediare, numite noduri</a:t>
            </a: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reţelele mar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umeroase conexiuni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ntre perechile de maşini individua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achet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e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de date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se paseaz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rin mai mul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aşini intermedia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fiind nevoie de algoritmi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 special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entru dirijarea pachetelor pe un drum opti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Soluţii ale problemei</a:t>
            </a:r>
            <a:r>
              <a:rPr b="0" lang="ro-RO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concurenţei</a:t>
            </a:r>
            <a:br>
              <a:rPr sz="40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în reţelele cu difuzare de tip magistrală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Oferirea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nei secvenţe de tim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fiecăr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membru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consecutiv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în funcţie de adres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oderator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ce dirijează priorităţile de acces 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Concurenţ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liber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. Dacă canalul e ocupat, maşina încearcă să-l ocupe peste un interval de timp 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alea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mparte arhitectura reţelei în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ivele log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tabileşt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ervicii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oferite de fiecare ni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efineşt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structura comunicări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Fiecare nivel es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ependen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oar de serviciil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nivelului de mai jos, nu şi de modul de implementare al acesto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Arhitectura aplicaţie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28760" y="1500120"/>
            <a:ext cx="8286480" cy="4786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opologia:</a:t>
            </a:r>
            <a:br>
              <a:rPr sz="3000"/>
            </a:b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e magistrală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ipul transmisiei de date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elul arhitectural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inspirat din ISO-OS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ul de rezolvare a concurenţei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rator ce dirijează priorităţile de ac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500040" y="1285920"/>
            <a:ext cx="8215200" cy="514332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0" spc="-1" strike="noStrike">
                <a:solidFill>
                  <a:srgbClr val="c3d69b"/>
                </a:solidFill>
                <a:latin typeface="Times New Roman"/>
                <a:ea typeface="Times New Roman"/>
              </a:rPr>
              <a:t>IO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0040" y="285840"/>
            <a:ext cx="8229600" cy="868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Ierarhia clas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42960" y="16430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TIOStrea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642960" y="2928960"/>
            <a:ext cx="2633760" cy="7570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TConne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42960" y="4143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 u="sng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TProtocol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642960" y="5286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5" action="ppaction://hlinksldjump"/>
              </a:rPr>
              <a:t>TGovProtoco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AutoShape 8"/>
          <p:cNvCxnSpPr>
            <a:stCxn id="127" idx="2"/>
            <a:endCxn id="128" idx="0"/>
          </p:cNvCxnSpPr>
          <p:nvPr/>
        </p:nvCxnSpPr>
        <p:spPr>
          <a:xfrm>
            <a:off x="1960200" y="2400480"/>
            <a:ext cx="1080" cy="529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AutoShape 9"/>
          <p:cNvCxnSpPr>
            <a:stCxn id="128" idx="2"/>
            <a:endCxn id="129" idx="0"/>
          </p:cNvCxnSpPr>
          <p:nvPr/>
        </p:nvCxnSpPr>
        <p:spPr>
          <a:xfrm>
            <a:off x="1960200" y="3686040"/>
            <a:ext cx="1080" cy="457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AutoShape 10"/>
          <p:cNvCxnSpPr>
            <a:stCxn id="129" idx="2"/>
            <a:endCxn id="130" idx="0"/>
          </p:cNvCxnSpPr>
          <p:nvPr/>
        </p:nvCxnSpPr>
        <p:spPr>
          <a:xfrm>
            <a:off x="1960200" y="4900320"/>
            <a:ext cx="1080" cy="386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4" name="Text Box 11"/>
          <p:cNvSpPr/>
          <p:nvPr/>
        </p:nvSpPr>
        <p:spPr>
          <a:xfrm>
            <a:off x="3305160" y="1571760"/>
            <a:ext cx="528624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Deschiderea şi verificarea canalului de comunicar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Scrierea şi citirea datelor prin cana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Contorizarea </a:t>
            </a:r>
            <a:r>
              <a:rPr b="0" lang="ro-RO" sz="1900" spc="-1" strike="noStrike">
                <a:solidFill>
                  <a:srgbClr val="000000"/>
                </a:solidFill>
                <a:latin typeface="Times New Roman"/>
              </a:rPr>
              <a:t>perioadelor</a:t>
            </a: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 (de scriere/citire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2"/>
          <p:cNvSpPr/>
          <p:nvPr/>
        </p:nvSpPr>
        <p:spPr>
          <a:xfrm>
            <a:off x="3305160" y="2857680"/>
            <a:ext cx="528624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nectaea / deconectarea de la re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ţ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Sincronizarea în reţ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Gestionarea timer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ilor / timpul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mutarea între modurile scriere - cit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3"/>
          <p:cNvSpPr/>
          <p:nvPr/>
        </p:nvSpPr>
        <p:spPr>
          <a:xfrm>
            <a:off x="3305160" y="4000680"/>
            <a:ext cx="528624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dificarea datelor, formarea cadrelor de 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Trimitera datel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3305160" y="5286240"/>
            <a:ext cx="528624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Regulile de comunica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Dirijarea accesului la canal (scriere / citir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1T01:42:21Z</dcterms:created>
  <dc:creator>DUzun</dc:creator>
  <dc:description/>
  <dc:language>en-US</dc:language>
  <cp:lastModifiedBy>Computer</cp:lastModifiedBy>
  <dcterms:modified xsi:type="dcterms:W3CDTF">2008-10-02T09:16:09Z</dcterms:modified>
  <cp:revision>62</cp:revision>
  <dc:subject/>
  <dc:title>Aspecte în modelarea protocoalelor de comunicare între calculatoare</dc:title>
</cp:coreProperties>
</file>